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7237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600200" y="4070160"/>
            <a:ext cx="7237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08920" y="152352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00200" y="407016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308920" y="407016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23302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47480" y="1523520"/>
            <a:ext cx="23302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94400" y="1523520"/>
            <a:ext cx="23302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600200" y="4070160"/>
            <a:ext cx="23302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47480" y="4070160"/>
            <a:ext cx="23302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94400" y="4070160"/>
            <a:ext cx="23302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600200" y="1523520"/>
            <a:ext cx="7237440" cy="48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723744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353160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08920" y="1523520"/>
            <a:ext cx="353160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3880" y="6480"/>
            <a:ext cx="73900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08920" y="1523520"/>
            <a:ext cx="353160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600200" y="407016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600200" y="1523520"/>
            <a:ext cx="7237440" cy="48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353160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08920" y="152352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08920" y="407016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08920" y="152352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00200" y="4070160"/>
            <a:ext cx="7237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7237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600200" y="4070160"/>
            <a:ext cx="7237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08920" y="152352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600200" y="407016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308920" y="407016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23302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7480" y="1523520"/>
            <a:ext cx="23302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94400" y="1523520"/>
            <a:ext cx="23302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600200" y="4070160"/>
            <a:ext cx="23302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047480" y="4070160"/>
            <a:ext cx="23302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94400" y="4070160"/>
            <a:ext cx="23302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723744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353160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308920" y="1523520"/>
            <a:ext cx="353160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23880" y="6480"/>
            <a:ext cx="73900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08920" y="1523520"/>
            <a:ext cx="353160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600200" y="407016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353160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08920" y="152352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08920" y="407016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08920" y="152352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600200" y="4070160"/>
            <a:ext cx="7237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1523520"/>
            <a:ext cx="723744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4997520"/>
            <a:ext cx="8227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720360"/>
            <a:ext cx="896472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PH" sz="4000" spc="-1" strike="noStrike">
                <a:solidFill>
                  <a:srgbClr val="004a4a"/>
                </a:solidFill>
                <a:latin typeface="Times New Roman"/>
              </a:rPr>
              <a:t>The </a:t>
            </a:r>
            <a:r>
              <a:rPr b="1" lang="en-US" sz="4000" spc="-1" strike="noStrike">
                <a:solidFill>
                  <a:srgbClr val="004a4a"/>
                </a:solidFill>
                <a:latin typeface="Times New Roman"/>
              </a:rPr>
              <a:t>Impact of Educational Technology in Classes through the measure of , writing,reading and listening abilities of Primary Graders in Select Elementary Schools in Iligan City</a:t>
            </a:r>
            <a:endParaRPr b="1" lang="en-US" sz="40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539280" y="561312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004a4a"/>
                </a:solidFill>
                <a:latin typeface="Times New Roman"/>
              </a:rPr>
              <a:t>Ma. Socorro S. Salcedo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0720" y="631440"/>
            <a:ext cx="739152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PH" sz="4400" spc="-1" strike="noStrike">
                <a:solidFill>
                  <a:srgbClr val="800000"/>
                </a:solidFill>
                <a:latin typeface="Century Gothic"/>
              </a:rPr>
              <a:t>GOAL</a:t>
            </a: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2503440"/>
            <a:ext cx="882036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PH" sz="3600" spc="-1" strike="noStrike">
                <a:solidFill>
                  <a:srgbClr val="004a4a"/>
                </a:solidFill>
                <a:latin typeface="Times New Roman"/>
              </a:rPr>
              <a:t>       </a:t>
            </a:r>
            <a:r>
              <a:rPr b="0" lang="en-PH" sz="3600" spc="-1" strike="noStrike">
                <a:solidFill>
                  <a:srgbClr val="004a4a"/>
                </a:solidFill>
                <a:latin typeface="Times New Roman"/>
              </a:rPr>
              <a:t>To conduct a research study in</a:t>
            </a:r>
            <a:r>
              <a:rPr b="0" lang="en-US" sz="3600" spc="-1" strike="noStrike">
                <a:solidFill>
                  <a:srgbClr val="004a4a"/>
                </a:solidFill>
                <a:latin typeface="Times New Roman"/>
              </a:rPr>
              <a:t>determining the of the use of educational technology in classes through the measure of speaking, writing,reading and listening abilities of students in the primary years.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10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60000"/>
            <a:ext cx="739152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PH" sz="4400" spc="-1" strike="noStrike">
                <a:solidFill>
                  <a:srgbClr val="800000"/>
                </a:solidFill>
                <a:latin typeface="Century Gothic"/>
              </a:rPr>
              <a:t>Task /Strategies</a:t>
            </a: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0000" y="1781280"/>
            <a:ext cx="8459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004a4a"/>
                </a:solidFill>
                <a:latin typeface="Times New Roman"/>
              </a:rPr>
              <a:t>Cooperative learning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004a4a"/>
                </a:solidFill>
                <a:latin typeface="Times New Roman"/>
              </a:rPr>
              <a:t>Students learn to read, write, and think by having </a:t>
            </a:r>
            <a:r>
              <a:rPr b="0" lang="en-US" sz="3200" spc="-1" strike="noStrike">
                <a:solidFill>
                  <a:srgbClr val="004a4a"/>
                </a:solidFill>
                <a:latin typeface="Times New Roman"/>
              </a:rPr>
              <a:t>meaningful engagements with more experienced individuals or their peers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4a4a"/>
                </a:solidFill>
                <a:latin typeface="Times New Roman"/>
              </a:rPr>
              <a:t>Responses to literature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4a4a"/>
                </a:solidFill>
                <a:latin typeface="Times New Roman"/>
              </a:rPr>
              <a:t>Students are encouraged and allowed to respond  to literature through active construction of meaning.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60360" y="1800000"/>
            <a:ext cx="84787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004a4a"/>
                </a:solidFill>
                <a:latin typeface="Times New Roman"/>
              </a:rPr>
              <a:t>Interaction strategies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004a4a"/>
                </a:solidFill>
                <a:latin typeface="Times New Roman"/>
              </a:rPr>
              <a:t>To maintain communication, such as encouraging </a:t>
            </a:r>
            <a:r>
              <a:rPr b="0" lang="en-US" sz="3200" spc="-1" strike="noStrike">
                <a:solidFill>
                  <a:srgbClr val="004a4a"/>
                </a:solidFill>
                <a:latin typeface="Times New Roman"/>
              </a:rPr>
              <a:t>response from others, asking questions and turn-taking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4a4a"/>
                </a:solidFill>
                <a:latin typeface="Times New Roman"/>
              </a:rPr>
              <a:t>Listens to others and stays on topic in conversations on familiar and unfamiliar topics, responding with feedback to the ideas of others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360360"/>
            <a:ext cx="739152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PH" sz="4400" spc="-1" strike="noStrike">
                <a:solidFill>
                  <a:srgbClr val="800000"/>
                </a:solidFill>
                <a:latin typeface="Century Gothic"/>
              </a:rPr>
              <a:t>Task /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8480" y="361800"/>
            <a:ext cx="739152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PH" sz="4400" spc="-1" strike="noStrike">
                <a:solidFill>
                  <a:srgbClr val="800000"/>
                </a:solidFill>
                <a:latin typeface="Century Gothic"/>
              </a:rPr>
              <a:t>Timeline</a:t>
            </a: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39640" y="2160720"/>
          <a:ext cx="8280360" cy="3053880"/>
        </p:xfrm>
        <a:graphic>
          <a:graphicData uri="http://schemas.openxmlformats.org/drawingml/2006/table">
            <a:tbl>
              <a:tblPr/>
              <a:tblGrid>
                <a:gridCol w="5686560"/>
                <a:gridCol w="2593800"/>
              </a:tblGrid>
              <a:tr h="91224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PH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e-Octo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PH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er-M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21416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PH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inar/Training about the application of Educational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PH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al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</p:spTree>
  </p:cSld>
  <p:transition spd="med">
    <p:split dir="in" orient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360000"/>
            <a:ext cx="739152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PH" sz="4400" spc="-1" strike="noStrike">
                <a:solidFill>
                  <a:srgbClr val="800000"/>
                </a:solidFill>
                <a:latin typeface="Century Gothic"/>
              </a:rPr>
              <a:t>Resources</a:t>
            </a: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60000" y="1879200"/>
            <a:ext cx="82803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004a4a"/>
                </a:solidFill>
                <a:latin typeface="Arial"/>
              </a:rPr>
              <a:t>Book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004a4a"/>
                </a:solidFill>
                <a:latin typeface="Arial"/>
              </a:rPr>
              <a:t>Multimedia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004a4a"/>
                </a:solidFill>
                <a:latin typeface="Arial"/>
              </a:rPr>
              <a:t>Projector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004a4a"/>
                </a:solidFill>
                <a:latin typeface="Arial"/>
              </a:rPr>
              <a:t>Other material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02:39:00Z</dcterms:created>
  <dc:creator>DigitalOfficePro</dc:creator>
  <dc:description/>
  <dc:language>en-US</dc:language>
  <cp:lastModifiedBy/>
  <dcterms:modified xsi:type="dcterms:W3CDTF">2010-05-29T02:52:57Z</dcterms:modified>
  <cp:revision>0</cp:revision>
  <dc:subject>PowerPoint Template</dc:subject>
  <dc:title>Drawing PowerPoint Template</dc:title>
</cp:coreProperties>
</file>